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BDE69-E2A7-4C35-AB6A-17DEAAE79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DB06E-CC34-4BCE-AF06-9251DE124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E64E5-846B-4C42-97D2-6CBB198FE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E3BB0-34CA-4BFE-BAAD-56BD4ACFE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E0B151-C611-4089-982A-75CB4CC76B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EF4743-E1B6-49A2-9217-512569888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BC0AF-B378-4ADE-9EF4-9EFBB8295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793AA1-5E88-417D-989E-37863C402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3AE50-7DC0-4579-A152-030278FBC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6F546-7BE1-4093-B543-22AE534BC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F88E9-719E-4095-9661-6AD16F869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FBCEC-9666-46BC-8A00-075E04A93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2BD75-8FB4-4034-8BE9-E673020F9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D5131-EA4A-4913-8CA6-015943A35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DA446-F62B-47CD-8009-397E08503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78EB7A-E83A-48FC-AD09-A0AA5E5753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E6B8BE-9629-4A9C-BA09-C2BF8E1237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F84C036-FAB0-4F09-A47B-F19BB3EFF5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D2871BB-0E09-4B6D-8389-6F31016FB7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6F66356-C201-4F4F-B56A-C743C0FC0E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C67830C-C149-4790-AC71-852C7F0C52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1FBC661-6136-4F4F-A99B-9225AEDF4F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E3DE6-81BC-49F1-BDDA-EBB656F8B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7EA6AE6-06DA-403D-9717-9107A0FBEC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81886B3-EBFE-4D3D-98FA-F7E08A3C93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6C55618-5856-484D-A8E5-CA2C40C123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C4F1901-B288-4FD3-87D3-11C0C4A920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60FF3BF-0F16-4BF3-ACF4-9254A8A68A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4A03ABD-5B42-41C5-9312-5C5019A35C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DD3BF0E-6A41-406C-9102-8953607391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4C2808-A648-46B9-9C4E-9B7CDF4F56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E2883C-7D63-4A61-AB4E-769803A793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05E102-740C-4F14-934D-867061BCCA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9EC36-F7B1-4743-B021-A315CA4B3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251206-A46D-4B78-8CFC-1720C1BC30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1C9824-4F18-432E-8995-58A8D93CB5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72C6B5-9A48-4FE6-A837-09DEC52DE5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CF4D11-F2F0-40D7-8088-5968BF0976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C15AC2-A135-41BE-8483-C9481EC9D8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8AB12D-46EF-4941-97A4-A3AEDC9A15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68FAAE-3618-43FF-95E0-244D73CECE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161D79-5648-4AF1-8D8F-DCE1843768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A47190-32B5-4E6E-BCB3-1A1AF5E38A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4302904-BA6D-4C8A-8B28-D1AA14720C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A16B9-3AF9-4319-93C4-3C095B545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8873C85-CC64-4FD5-96B1-B2171CAA05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6957A43-03A2-4F9D-BE01-30495E5CAB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27B4C52-30AA-45F1-9B10-C71F6CBC76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BE15DFE-9910-48A5-A756-71D6112E41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1DE37AD-795E-4A73-BB9D-3978D93D3D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6F918D4-4777-4520-8E4B-1E94B5EAD0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FA3CECA-8A8C-41A7-9E1A-3DE3147DB7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802BB89-C8AE-4DD2-BDDA-0651D9BE79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CDE0C12-73AE-482D-887A-8645E17963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B2D8B3F-95A1-43BE-980F-103E319D6C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BB7AB-E85E-456B-8721-E1B1753F9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95D4172-1E9E-4B38-9F58-05659F2EE6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6CC480B-95C1-44EB-BDBC-B038B05D30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6F4F4BC-4DDE-47CD-B7C3-F47D6E6916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F5E3D30-2CBE-4CDA-B27B-5B0BAD3928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3EF93AE-6DCE-433F-9DEA-41BBA88DCE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AA0F2B3-8E35-455D-B749-2F9AE42BFC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3FDD1F5-CA94-43F4-AC06-038E78DCF2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247C32E-241C-428E-96B8-545D3FE1FA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5EE9AA5-F72D-4241-9F71-8F293CA13A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A117A48-FFEA-45F2-81CC-50BAB4A62C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2CE23-42A6-4FA7-97D5-70929D4A9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4E8805A-3B62-4CEE-B878-9E959D33F5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4CA39A8-8D33-4FCC-A6B3-70AD8EBBBB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220B1D8-DC00-4A24-AD56-B9EB1A3EF4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AAE7F41-2369-49F3-94E1-810285E001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E647E86-0128-47B4-844B-CBAA0011DF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5491B12-BB4C-40A9-8233-60BD5B1003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596B547-97CE-4E5A-A042-96B47158C8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847BF9F-ABEB-40C8-9911-BC825F97C5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108B89E-2945-4BE5-B64D-F266EED2D4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B76DBBA-663D-443B-9CCF-4C2FDC08E1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A8079-D63B-4025-BC68-A5F882794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8449BD2-2931-42E4-A95A-3D0B990B77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C709E6A-0859-4AD5-90A5-F9F9048FA3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F3894CC-EC5B-45BF-B4A7-E88455907C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F9058E9-840E-43A7-A098-6075492B2F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A58A314-8871-45AB-ABB7-B54CFD05C1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8F306-4E4E-4B1C-9664-DFA9F6A53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89CF-270A-4B03-BC95-DF0DECA8F1C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F3CDC-0BE6-4A1B-81A9-B3A13463575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C3672-FC8F-424E-B4BF-B05E3FB85DB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0838F-B85C-4249-BF49-F0946E740DE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D5639-841F-4B89-8303-83C328B5EAC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D5FD9-089B-4627-A4FE-E1BCACB4ABA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AF247-2E1E-4B6D-B0AB-34BF50C39E4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595959"/>
                </a:solidFill>
                <a:latin typeface="Curlz MT"/>
              </a:rPr>
              <a:t>KIDS.GOV</a:t>
            </a:r>
            <a:endParaRPr b="0" lang="en-US" sz="72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Irene Guillermo</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CMP 230</a:t>
            </a:r>
            <a:endParaRPr b="0" lang="en-US" sz="1800" spc="-1" strike="noStrike">
              <a:solidFill>
                <a:srgbClr val="000000"/>
              </a:solidFill>
              <a:latin typeface="Century Schoolbook"/>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TextBox 1"/>
          <p:cNvSpPr/>
          <p:nvPr/>
        </p:nvSpPr>
        <p:spPr>
          <a:xfrm>
            <a:off x="380880" y="457200"/>
            <a:ext cx="7848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Kids.gov was a very easy site to navigate throug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offered useful information for students, educators and parents (thought it doesn’t have a specific parent tab.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site of the month’ offered important information for the entire targeted audience, parents, children and educators. This month’s site featured a bullying websi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 have even had my son visit the site, and introduced it to my students.</a:t>
            </a:r>
            <a:endParaRPr b="0" lang="en-US" sz="2400" spc="-1" strike="noStrike">
              <a:solidFill>
                <a:srgbClr val="000000"/>
              </a:solidFill>
              <a:latin typeface="Arial"/>
            </a:endParaRPr>
          </a:p>
        </p:txBody>
      </p:sp>
    </p:spTree>
  </p:cSld>
  <p:transition spd="med">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
          <p:cNvPicPr/>
          <p:nvPr/>
        </p:nvPicPr>
        <p:blipFill>
          <a:blip r:embed="rId1"/>
          <a:stretch/>
        </p:blipFill>
        <p:spPr>
          <a:xfrm>
            <a:off x="228600" y="1143000"/>
            <a:ext cx="8610480" cy="5410080"/>
          </a:xfrm>
          <a:prstGeom prst="rect">
            <a:avLst/>
          </a:prstGeom>
          <a:ln w="0">
            <a:noFill/>
          </a:ln>
        </p:spPr>
      </p:pic>
      <p:sp>
        <p:nvSpPr>
          <p:cNvPr id="354" name="Rectangle 2"/>
          <p:cNvSpPr/>
          <p:nvPr/>
        </p:nvSpPr>
        <p:spPr>
          <a:xfrm>
            <a:off x="0" y="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a:rPr>
              <a:t>Kids.gov</a:t>
            </a:r>
            <a:r>
              <a:rPr b="0" lang="en-US" sz="1800" spc="-1" strike="noStrike">
                <a:solidFill>
                  <a:srgbClr val="000000"/>
                </a:solidFill>
                <a:latin typeface="Century"/>
              </a:rPr>
              <a:t> is a safe place where kids can create, share and learn. </a:t>
            </a:r>
            <a:br>
              <a:rPr sz="1800"/>
            </a:br>
            <a:r>
              <a:rPr b="0" lang="en-US" sz="1800" spc="-1" strike="noStrike">
                <a:solidFill>
                  <a:srgbClr val="000000"/>
                </a:solidFill>
                <a:latin typeface="Century"/>
              </a:rPr>
              <a:t>* it linkagenciess over 2000 web pages from government, schools and educational organizations all geared to the learning level and interest of kids…</a:t>
            </a:r>
            <a:endParaRPr b="0" lang="en-US" sz="1800" spc="-1" strike="noStrike">
              <a:solidFill>
                <a:srgbClr val="000000"/>
              </a:solidFill>
              <a:latin typeface="Arial"/>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1"/>
          <p:cNvSpPr/>
          <p:nvPr/>
        </p:nvSpPr>
        <p:spPr>
          <a:xfrm>
            <a:off x="380880" y="395280"/>
            <a:ext cx="8077320" cy="685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a:rPr>
              <a:t> </a:t>
            </a:r>
            <a:r>
              <a:rPr b="1" lang="en-US" sz="4000" spc="-1" strike="noStrike">
                <a:solidFill>
                  <a:srgbClr val="000000"/>
                </a:solidFill>
                <a:latin typeface="Century"/>
              </a:rPr>
              <a:t>Kids.gov  </a:t>
            </a:r>
            <a:r>
              <a:rPr b="0" lang="en-US" sz="4000" spc="-1" strike="noStrike">
                <a:solidFill>
                  <a:srgbClr val="000000"/>
                </a:solidFill>
                <a:latin typeface="Century"/>
              </a:rPr>
              <a:t>focuses on three target audiences: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a:rPr>
              <a:t>K – 5</a:t>
            </a:r>
            <a:r>
              <a:rPr b="0" lang="en-US" sz="4000" spc="-1" strike="noStrike" baseline="30000">
                <a:solidFill>
                  <a:srgbClr val="000000"/>
                </a:solidFill>
                <a:latin typeface="Century"/>
              </a:rPr>
              <a:t>th</a:t>
            </a:r>
            <a:r>
              <a:rPr b="0" lang="en-US" sz="4000" spc="-1" strike="noStrike">
                <a:solidFill>
                  <a:srgbClr val="000000"/>
                </a:solidFill>
                <a:latin typeface="Century"/>
              </a:rPr>
              <a:t> grad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a:rPr>
              <a:t>6</a:t>
            </a:r>
            <a:r>
              <a:rPr b="0" lang="en-US" sz="4000" spc="-1" strike="noStrike" baseline="30000">
                <a:solidFill>
                  <a:srgbClr val="000000"/>
                </a:solidFill>
                <a:latin typeface="Century"/>
              </a:rPr>
              <a:t>th</a:t>
            </a:r>
            <a:r>
              <a:rPr b="0" lang="en-US" sz="4000" spc="-1" strike="noStrike">
                <a:solidFill>
                  <a:srgbClr val="000000"/>
                </a:solidFill>
                <a:latin typeface="Century"/>
              </a:rPr>
              <a:t> – 8</a:t>
            </a:r>
            <a:r>
              <a:rPr b="0" lang="en-US" sz="4000" spc="-1" strike="noStrike" baseline="30000">
                <a:solidFill>
                  <a:srgbClr val="000000"/>
                </a:solidFill>
                <a:latin typeface="Century"/>
              </a:rPr>
              <a:t>th</a:t>
            </a:r>
            <a:r>
              <a:rPr b="0" lang="en-US" sz="4000" spc="-1" strike="noStrike">
                <a:solidFill>
                  <a:srgbClr val="000000"/>
                </a:solidFill>
                <a:latin typeface="Century"/>
              </a:rPr>
              <a:t> grade and</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a:rPr>
              <a:t>Educators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a:rPr>
              <a:t>*</a:t>
            </a:r>
            <a:r>
              <a:rPr b="0" lang="en-US" sz="2400" spc="-1" strike="noStrike">
                <a:solidFill>
                  <a:srgbClr val="000000"/>
                </a:solidFill>
                <a:latin typeface="Century"/>
              </a:rPr>
              <a:t>click on the ‘site map’ tab to get a list of options to explore on the si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356" name="Picture 3" descr="C:\Users\Rguillermo\AppData\Local\Microsoft\Windows\Temporary Internet Files\Content.IE5\U6RW46JI\MC900290924[1].wmf"/>
          <p:cNvPicPr/>
          <p:nvPr/>
        </p:nvPicPr>
        <p:blipFill>
          <a:blip r:embed="rId1"/>
          <a:stretch/>
        </p:blipFill>
        <p:spPr>
          <a:xfrm>
            <a:off x="380880" y="5192640"/>
            <a:ext cx="1692360" cy="1665360"/>
          </a:xfrm>
          <a:prstGeom prst="rect">
            <a:avLst/>
          </a:prstGeom>
          <a:ln w="0">
            <a:noFill/>
          </a:ln>
        </p:spPr>
      </p:pic>
      <p:pic>
        <p:nvPicPr>
          <p:cNvPr id="357" name="Picture 4" descr="C:\Users\Rguillermo\AppData\Local\Microsoft\Windows\Temporary Internet Files\Content.IE5\CI7UQF4W\MC900411862[1].wmf"/>
          <p:cNvPicPr/>
          <p:nvPr/>
        </p:nvPicPr>
        <p:blipFill>
          <a:blip r:embed="rId2"/>
          <a:stretch/>
        </p:blipFill>
        <p:spPr>
          <a:xfrm>
            <a:off x="4191120" y="5235480"/>
            <a:ext cx="2141280" cy="1622520"/>
          </a:xfrm>
          <a:prstGeom prst="rect">
            <a:avLst/>
          </a:prstGeom>
          <a:ln w="0">
            <a:noFill/>
          </a:ln>
        </p:spPr>
      </p:pic>
      <p:pic>
        <p:nvPicPr>
          <p:cNvPr id="358" name="Picture 8" descr="C:\Users\Rguillermo\AppData\Local\Microsoft\Windows\Temporary Internet Files\Content.IE5\W3NM69IG\MC900290705[1].wmf"/>
          <p:cNvPicPr/>
          <p:nvPr/>
        </p:nvPicPr>
        <p:blipFill>
          <a:blip r:embed="rId3"/>
          <a:stretch/>
        </p:blipFill>
        <p:spPr>
          <a:xfrm>
            <a:off x="2133720" y="4987800"/>
            <a:ext cx="2412720" cy="1870200"/>
          </a:xfrm>
          <a:prstGeom prst="rect">
            <a:avLst/>
          </a:prstGeom>
          <a:ln w="0">
            <a:noFill/>
          </a:ln>
        </p:spPr>
      </p:pic>
      <p:pic>
        <p:nvPicPr>
          <p:cNvPr id="359" name="Picture 9" descr="C:\Users\Rguillermo\AppData\Local\Microsoft\Windows\Temporary Internet Files\Content.IE5\95H3EFGG\MC900250665[1].wmf"/>
          <p:cNvPicPr/>
          <p:nvPr/>
        </p:nvPicPr>
        <p:blipFill>
          <a:blip r:embed="rId4"/>
          <a:stretch/>
        </p:blipFill>
        <p:spPr>
          <a:xfrm>
            <a:off x="6400800" y="5156280"/>
            <a:ext cx="1812960" cy="1701720"/>
          </a:xfrm>
          <a:prstGeom prst="rect">
            <a:avLst/>
          </a:prstGeom>
          <a:ln w="0">
            <a:noFill/>
          </a:ln>
        </p:spPr>
      </p:pic>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GRADES K – 5</a:t>
            </a:r>
            <a:br>
              <a:rPr sz="3000"/>
            </a:br>
            <a:r>
              <a:rPr b="0" lang="en-US" sz="3000" spc="-1" strike="noStrike">
                <a:solidFill>
                  <a:srgbClr val="575f6d"/>
                </a:solidFill>
                <a:latin typeface="Century Schoolbook"/>
              </a:rPr>
              <a:t>DROP DOWN MENU CHOICES</a:t>
            </a:r>
            <a:endParaRPr b="0" lang="en-US" sz="3000" spc="-1" strike="noStrike">
              <a:solidFill>
                <a:srgbClr val="575f6d"/>
              </a:solidFill>
              <a:latin typeface="Century Schoolbook"/>
            </a:endParaRPr>
          </a:p>
        </p:txBody>
      </p:sp>
      <p:sp>
        <p:nvSpPr>
          <p:cNvPr id="36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rts (art, music, reading and writing)</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areers</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omputers</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Fun Stuff (learning activities and games/recreation and national parks</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Government</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Health, Fitness and Safety (health issues, fitness &amp; exercise, safety first)</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Math </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Money</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cience( about science, energy, living things, our planet, space and flight)</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ocial Studies</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tate Websites</a:t>
            </a:r>
            <a:endParaRPr b="0" lang="en-US" sz="2000" spc="-1" strike="noStrike">
              <a:solidFill>
                <a:srgbClr val="000000"/>
              </a:solidFill>
              <a:latin typeface="Century Schoolbook"/>
            </a:endParaRPr>
          </a:p>
        </p:txBody>
      </p:sp>
    </p:spTree>
  </p:cSld>
  <p:transition spd="med">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GRADES 6</a:t>
            </a:r>
            <a:r>
              <a:rPr b="0" lang="en-US" sz="3000" spc="-1" strike="noStrike" baseline="30000">
                <a:solidFill>
                  <a:srgbClr val="575f6d"/>
                </a:solidFill>
                <a:latin typeface="Century Schoolbook"/>
              </a:rPr>
              <a:t>TH</a:t>
            </a:r>
            <a:r>
              <a:rPr b="0" lang="en-US" sz="3000" spc="-1" strike="noStrike">
                <a:solidFill>
                  <a:srgbClr val="575f6d"/>
                </a:solidFill>
                <a:latin typeface="Century Schoolbook"/>
              </a:rPr>
              <a:t> – 8</a:t>
            </a:r>
            <a:r>
              <a:rPr b="0" lang="en-US" sz="3000" spc="-1" strike="noStrike" baseline="30000">
                <a:solidFill>
                  <a:srgbClr val="575f6d"/>
                </a:solidFill>
                <a:latin typeface="Century Schoolbook"/>
              </a:rPr>
              <a:t>TH</a:t>
            </a:r>
            <a:r>
              <a:rPr b="0" lang="en-US" sz="3000" spc="-1" strike="noStrike">
                <a:solidFill>
                  <a:srgbClr val="575f6d"/>
                </a:solidFill>
                <a:latin typeface="Century Schoolbook"/>
              </a:rPr>
              <a:t> </a:t>
            </a:r>
            <a:br>
              <a:rPr sz="3000"/>
            </a:br>
            <a:r>
              <a:rPr b="0" lang="en-US" sz="3000" spc="-1" strike="noStrike">
                <a:solidFill>
                  <a:srgbClr val="575f6d"/>
                </a:solidFill>
                <a:latin typeface="Century Schoolbook"/>
              </a:rPr>
              <a:t>DROP DOWN MENU OPTIONS</a:t>
            </a:r>
            <a:endParaRPr b="0" lang="en-US" sz="3000" spc="-1" strike="noStrike">
              <a:solidFill>
                <a:srgbClr val="575f6d"/>
              </a:solidFill>
              <a:latin typeface="Century Schoolbook"/>
            </a:endParaRPr>
          </a:p>
        </p:txBody>
      </p:sp>
      <p:sp>
        <p:nvSpPr>
          <p:cNvPr id="36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Arts (art, language arts, music performing arts)</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Careers</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Computers and Technology (careers, internet &amp; cyber safety, technology history and facts)</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Fun Stuff (learning activities &amp; games, recreation &amp; national parks)</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Government (citizens rights &amp; responsibilities, protecting the U.S.)</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Health, Fitness and Safety (careers, fitness &amp; exercise, health issues, safety)</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Math</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Money</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Science (how things work, earth science, inventors and scientists…)</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Social Studies (current events, maps &amp; geography, natural history…)</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State Websites</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Tree>
  </p:cSld>
  <p:transition spd="med">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Century Schoolbook"/>
              </a:rPr>
              <a:t>EDUCATORS</a:t>
            </a:r>
            <a:br>
              <a:rPr sz="2700"/>
            </a:br>
            <a:r>
              <a:rPr b="0" lang="en-US" sz="2700" spc="-1" strike="noStrike">
                <a:solidFill>
                  <a:srgbClr val="575f6d"/>
                </a:solidFill>
                <a:latin typeface="Century Schoolbook"/>
              </a:rPr>
              <a:t>DROP DOWN MENU OPTIONS</a:t>
            </a:r>
            <a:br>
              <a:rPr sz="2700"/>
            </a:br>
            <a:endParaRPr b="0" lang="en-US" sz="2700" spc="-1" strike="noStrike">
              <a:solidFill>
                <a:srgbClr val="575f6d"/>
              </a:solidFill>
              <a:latin typeface="Century Schoolbook"/>
            </a:endParaRPr>
          </a:p>
        </p:txBody>
      </p:sp>
      <p:sp>
        <p:nvSpPr>
          <p:cNvPr id="365" name=""/>
          <p:cNvSpPr txBox="1"/>
          <p:nvPr/>
        </p:nvSpPr>
        <p:spPr>
          <a:xfrm>
            <a:off x="-36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Note to educator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Art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Career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Computer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Fun stuff</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Government</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ealth, Fitness and Safety</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Math</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Money</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cience</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ocial Studie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State Website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p:transition spd="med">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Century Schoolbook"/>
              </a:rPr>
              <a:t>SITE OF THE MONTH</a:t>
            </a:r>
            <a:br>
              <a:rPr sz="4000"/>
            </a:br>
            <a:r>
              <a:rPr b="0" lang="en-US" sz="4000" spc="-1" strike="noStrike">
                <a:solidFill>
                  <a:srgbClr val="575f6d"/>
                </a:solidFill>
                <a:latin typeface="Century Schoolbook"/>
              </a:rPr>
              <a:t>	</a:t>
            </a:r>
            <a:r>
              <a:rPr b="0" lang="en-US" sz="4000" spc="-1" strike="noStrike">
                <a:solidFill>
                  <a:srgbClr val="575f6d"/>
                </a:solidFill>
                <a:latin typeface="Century Schoolbook"/>
              </a:rPr>
              <a:t>	</a:t>
            </a:r>
            <a:r>
              <a:rPr b="0" lang="en-US" sz="4000" spc="-1" strike="noStrike">
                <a:solidFill>
                  <a:srgbClr val="575f6d"/>
                </a:solidFill>
                <a:latin typeface="Century Schoolbook"/>
              </a:rPr>
              <a:t>	</a:t>
            </a:r>
            <a:r>
              <a:rPr b="0" lang="en-US" sz="4000" spc="-1" strike="noStrike">
                <a:solidFill>
                  <a:srgbClr val="575f6d"/>
                </a:solidFill>
                <a:latin typeface="Century Schoolbook"/>
              </a:rPr>
              <a:t>	</a:t>
            </a:r>
            <a:r>
              <a:rPr b="0" lang="en-US" sz="2200" spc="-1" strike="noStrike">
                <a:solidFill>
                  <a:srgbClr val="fe8637"/>
                </a:solidFill>
                <a:latin typeface="Century Schoolbook"/>
              </a:rPr>
              <a:t>FINDYOUTHINFO.GOV</a:t>
            </a:r>
            <a:endParaRPr b="0" lang="en-US" sz="2200" spc="-1" strike="noStrike">
              <a:solidFill>
                <a:srgbClr val="575f6d"/>
              </a:solidFill>
              <a:latin typeface="Century Schoolbook"/>
            </a:endParaRPr>
          </a:p>
        </p:txBody>
      </p:sp>
      <p:pic>
        <p:nvPicPr>
          <p:cNvPr id="367" name="Picture 2" descr=""/>
          <p:cNvPicPr/>
          <p:nvPr/>
        </p:nvPicPr>
        <p:blipFill>
          <a:blip r:embed="rId1"/>
          <a:stretch/>
        </p:blipFill>
        <p:spPr>
          <a:xfrm>
            <a:off x="0" y="1371600"/>
            <a:ext cx="8534520" cy="5486400"/>
          </a:xfrm>
          <a:prstGeom prst="rect">
            <a:avLst/>
          </a:prstGeom>
          <a:ln w="0">
            <a:noFill/>
          </a:ln>
        </p:spPr>
      </p:pic>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133360" y="914400"/>
            <a:ext cx="6172200" cy="2054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39d"/>
                </a:solidFill>
                <a:latin typeface="Century Schoolbook"/>
              </a:rPr>
              <a:t>HOT TOPICS</a:t>
            </a:r>
            <a:br>
              <a:rPr sz="4800"/>
            </a:br>
            <a:br>
              <a:rPr sz="4800"/>
            </a:br>
            <a:r>
              <a:rPr b="1" lang="en-US" sz="3000" spc="-1" strike="noStrike">
                <a:solidFill>
                  <a:srgbClr val="fff39d"/>
                </a:solidFill>
                <a:latin typeface="Century Schoolbook"/>
              </a:rPr>
              <a:t>	</a:t>
            </a:r>
            <a:r>
              <a:rPr b="1" lang="en-US" sz="3000" spc="-1" strike="noStrike">
                <a:solidFill>
                  <a:srgbClr val="fff39d"/>
                </a:solidFill>
                <a:latin typeface="Century Schoolbook"/>
              </a:rPr>
              <a:t>	</a:t>
            </a:r>
            <a:r>
              <a:rPr b="1" lang="en-US" sz="3000" spc="-1" strike="noStrike">
                <a:solidFill>
                  <a:srgbClr val="fff39d"/>
                </a:solidFill>
                <a:latin typeface="Century Schoolbook"/>
              </a:rPr>
              <a:t>	</a:t>
            </a:r>
            <a:r>
              <a:rPr b="1" lang="en-US" sz="2000" spc="-1" strike="noStrike">
                <a:solidFill>
                  <a:srgbClr val="fff39d"/>
                </a:solidFill>
                <a:latin typeface="Century Schoolbook"/>
              </a:rPr>
              <a:t>THIS MONTH</a:t>
            </a:r>
            <a:endParaRPr b="0" lang="en-US" sz="2000" spc="-1" strike="noStrike">
              <a:solidFill>
                <a:srgbClr val="fff39d"/>
              </a:solidFill>
              <a:latin typeface="Century Schoolbook"/>
            </a:endParaRPr>
          </a:p>
        </p:txBody>
      </p:sp>
      <p:sp>
        <p:nvSpPr>
          <p:cNvPr id="369" name="PlaceHolder 2"/>
          <p:cNvSpPr>
            <a:spLocks noGrp="1"/>
          </p:cNvSpPr>
          <p:nvPr>
            <p:ph/>
          </p:nvPr>
        </p:nvSpPr>
        <p:spPr>
          <a:xfrm>
            <a:off x="2057040" y="3809880"/>
            <a:ext cx="6172200" cy="1371600"/>
          </a:xfrm>
          <a:prstGeom prst="rect">
            <a:avLst/>
          </a:prstGeom>
          <a:noFill/>
          <a:ln w="0">
            <a:noFill/>
          </a:ln>
        </p:spPr>
        <p:txBody>
          <a:bodyPr lIns="90000" rIns="90000" tIns="46800" bIns="46800" anchor="t">
            <a:normAutofit fontScale="52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39d"/>
                </a:solidFill>
                <a:latin typeface="Century Schoolbook"/>
              </a:rPr>
              <a:t>*How do I become President</a:t>
            </a:r>
            <a:endParaRPr b="0" lang="en-US" sz="3600" spc="-1" strike="noStrike">
              <a:solidFill>
                <a:srgbClr val="ffffff"/>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39d"/>
                </a:solidFill>
                <a:latin typeface="Century Schoolbook"/>
              </a:rPr>
              <a:t>*Our You Tube Channel</a:t>
            </a:r>
            <a:endParaRPr b="0" lang="en-US" sz="3600" spc="-1" strike="noStrike">
              <a:solidFill>
                <a:srgbClr val="ffffff"/>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39d"/>
                </a:solidFill>
                <a:latin typeface="Century Schoolbook"/>
              </a:rPr>
              <a:t>*Halloween Safety</a:t>
            </a:r>
            <a:endParaRPr b="0" lang="en-US" sz="3600" spc="-1" strike="noStrike">
              <a:solidFill>
                <a:srgbClr val="ffffff"/>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39d"/>
                </a:solidFill>
                <a:latin typeface="Century Schoolbook"/>
              </a:rPr>
              <a:t>*Careers….and more</a:t>
            </a:r>
            <a:endParaRPr b="0" lang="en-US" sz="3600" spc="-1" strike="noStrike">
              <a:solidFill>
                <a:srgbClr val="ffffff"/>
              </a:solidFill>
              <a:latin typeface="Century Schoolbook"/>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Box 1"/>
          <p:cNvSpPr/>
          <p:nvPr/>
        </p:nvSpPr>
        <p:spPr>
          <a:xfrm>
            <a:off x="380880" y="45720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entury Schoolbook"/>
              </a:rPr>
              <a:t>Just a precaution.</a:t>
            </a:r>
            <a:r>
              <a:rPr b="0" lang="en-US" sz="2800" spc="-1" strike="noStrike">
                <a:solidFill>
                  <a:srgbClr val="002060"/>
                </a:solidFill>
                <a:latin typeface="Century Schoolbook"/>
              </a:rPr>
              <a:t> Kids.gov is a gateway site connecting children to other sites that provide information. Some are government run, others are not. Kids.gov distinguishes between the two. Those sites that are not government run do not have to follow the same restrictions as government sites. (There is a strict screening protocol performed before a link is added to their webpage, however).</a:t>
            </a:r>
            <a:endParaRPr b="0" lang="en-US" sz="2800" spc="-1" strike="noStrike">
              <a:solidFill>
                <a:srgbClr val="000000"/>
              </a:solidFill>
              <a:latin typeface="Arial"/>
            </a:endParaRPr>
          </a:p>
        </p:txBody>
      </p:sp>
    </p:spTree>
  </p:cSld>
  <p:transition spd="med">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3T01:11:40Z</dcterms:created>
  <dc:creator>Rguillermo</dc:creator>
  <dc:description/>
  <dc:language>en-US</dc:language>
  <cp:lastModifiedBy>Rguillermo</cp:lastModifiedBy>
  <dcterms:modified xsi:type="dcterms:W3CDTF">2011-10-21T04:04:46Z</dcterms:modified>
  <cp:revision>18</cp:revision>
  <dc:subject/>
  <dc:title>Kids.gov</dc:title>
</cp:coreProperties>
</file>